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7EFCF-F42B-471F-8C1A-FBDD4A788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BB620-69CE-4E7C-B2FB-E0192F7573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053F0-2D20-4801-A46D-883CBE0074A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69336-8F60-4160-A5F4-916B1545A5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81FA2EC5-2393-4ED3-A57C-42897C8577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C07B41D3-1128-464E-87D2-B5C7C1F1A8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D0816E6-6BAA-4F13-B485-87536F1273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CA1-AED1-4D24-875C-D668580F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51E-74C4-426D-A948-AE5816F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0AF-D077-40D2-BB44-1F6F6072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B91-67DA-453A-BBDA-88E655A5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69E-214D-488F-8BC8-7183A499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494-AF02-4E3E-B214-C8BDCC2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344F-CDCD-484B-9E5A-4A2DAC3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2F5-06F7-49D4-A42C-128162C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C589-C6A0-4B5E-9BB0-02D86B6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BCB8-A6EE-464E-A864-6B8B28EA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30F-E671-4A27-828B-B251B471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F39-2BE5-4954-A2DE-F2B9DD0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C99-02E7-4C43-88F6-C55F07B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DAB9-38F1-423F-867C-16081277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78BA-FD30-4233-A43E-DDCE278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E9B3-5BA6-43EA-AB6B-F1ADF2C0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08C9-EC8B-473B-B06D-C1BFF25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6D80-18A7-4605-9DD2-6031D125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7F7B-F4CB-4F81-B321-A365F20F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20CE-6C36-41E3-A8EB-E578EC0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C083-7FBB-46B1-9837-BEC3700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1FA3-6B70-4755-AAFB-FDBE5D6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972-9271-4262-AE85-05A3BCA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01B9-A8D1-40E9-A52B-4802AA61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61AD-AE5C-4749-B23B-3DBC609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2CCB-8832-4E5E-908F-0434652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7D05-7877-4F1B-A16E-D1017FD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85DA-30FE-40AD-B182-0F1F69E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3AE9-503C-472B-B409-909D733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5D6F-CACA-4487-B7F8-129FA003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A7E4-9C6F-4BD3-9D81-578E5E41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A6C1-C6F4-4D25-994B-B9BFB47E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8BC7-433D-4B77-814D-ADF0476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EB0-EB15-49E1-BE0C-6035D68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066D-0F06-45D0-8913-B5E1600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1FD9-201E-413F-ABC9-3C591F3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0CFB-A543-4D51-B100-76DEE4C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F93D-13EC-405A-83DC-BA27698C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80C1-846C-4AB9-A642-9A99748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0060-2BE7-41CF-8707-ED655FDB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6687-87A4-4A28-BDF7-FD44778D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8B30-6587-4C7B-B50B-DB6AF2C6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DCF9-A71C-487F-8E80-0210269C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266-832A-4723-BB65-486EF71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204-09AA-424A-8528-DCBD6F9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AC2-F877-4889-B984-89E429D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EF5-B00D-4BE5-A7B0-C729732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59B-A657-4E97-8978-7B7DA5E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© Piyush Gupta, NI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356-FBBA-4E61-9DD5-66ED16A3FE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© Piyush Gupta, NI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A47E-A40E-483D-AC5B-D45EA1B383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C91-B641-4396-A8FD-D474AC6736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25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8" descr="DSC01994"/>
          <p:cNvPicPr/>
          <p:nvPr/>
        </p:nvPicPr>
        <p:blipFill>
          <a:blip r:embed="rId1"/>
          <a:stretch/>
        </p:blipFill>
        <p:spPr>
          <a:xfrm>
            <a:off x="609480" y="328608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3040" y="190476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Challenges  &amp; Key Success Factors for e-Gov Projects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By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Dr. Ashwini Kumar Sharma,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MD, NIELIT</a:t>
            </a:r>
            <a:br>
              <a:rPr sz="3000"/>
            </a:br>
            <a:br>
              <a:rPr sz="30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3A4-FF5A-43EB-9294-828FED14301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124_Photo1"/>
          <p:cNvPicPr/>
          <p:nvPr/>
        </p:nvPicPr>
        <p:blipFill>
          <a:blip r:embed="rId2"/>
          <a:stretch/>
        </p:blipFill>
        <p:spPr>
          <a:xfrm>
            <a:off x="152280" y="5133960"/>
            <a:ext cx="2133720" cy="1374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DSC01316"/>
          <p:cNvPicPr/>
          <p:nvPr/>
        </p:nvPicPr>
        <p:blipFill>
          <a:blip r:embed="rId3"/>
          <a:stretch/>
        </p:blipFill>
        <p:spPr>
          <a:xfrm>
            <a:off x="533520" y="167652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Garamond"/>
              </a:rPr>
              <a:t>4 Questions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to be addressed for eGov Project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511560" y="1143000"/>
            <a:ext cx="7815960" cy="703440"/>
            <a:chOff x="511560" y="1143000"/>
            <a:chExt cx="7815960" cy="703440"/>
          </a:xfrm>
        </p:grpSpPr>
        <p:sp>
          <p:nvSpPr>
            <p:cNvPr id="310" name="Text Box 4"/>
            <p:cNvSpPr/>
            <p:nvPr/>
          </p:nvSpPr>
          <p:spPr>
            <a:xfrm>
              <a:off x="2955960" y="1200240"/>
              <a:ext cx="53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HAT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do we want to </a:t>
              </a:r>
              <a:r>
                <a:rPr b="0" i="1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Achieve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5"/>
            <p:cNvGrpSpPr/>
            <p:nvPr/>
          </p:nvGrpSpPr>
          <p:grpSpPr>
            <a:xfrm>
              <a:off x="511560" y="1143000"/>
              <a:ext cx="1942560" cy="703440"/>
              <a:chOff x="511560" y="1143000"/>
              <a:chExt cx="1942560" cy="703440"/>
            </a:xfrm>
          </p:grpSpPr>
          <p:sp>
            <p:nvSpPr>
              <p:cNvPr id="312" name="Text Box 6"/>
              <p:cNvSpPr/>
              <p:nvPr/>
            </p:nvSpPr>
            <p:spPr>
              <a:xfrm>
                <a:off x="511560" y="114300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7"/>
              <p:cNvSpPr/>
              <p:nvPr/>
            </p:nvSpPr>
            <p:spPr>
              <a:xfrm>
                <a:off x="1920960" y="131148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8"/>
          <p:cNvGrpSpPr/>
          <p:nvPr/>
        </p:nvGrpSpPr>
        <p:grpSpPr>
          <a:xfrm>
            <a:off x="511560" y="2378160"/>
            <a:ext cx="8145000" cy="703440"/>
            <a:chOff x="511560" y="2378160"/>
            <a:chExt cx="8145000" cy="703440"/>
          </a:xfrm>
        </p:grpSpPr>
        <p:sp>
          <p:nvSpPr>
            <p:cNvPr id="315" name="Text Box 9"/>
            <p:cNvSpPr/>
            <p:nvPr/>
          </p:nvSpPr>
          <p:spPr>
            <a:xfrm>
              <a:off x="2944800" y="2435400"/>
              <a:ext cx="57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HOW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do we want to </a:t>
              </a:r>
              <a:r>
                <a:rPr b="0" i="1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Implement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0"/>
            <p:cNvGrpSpPr/>
            <p:nvPr/>
          </p:nvGrpSpPr>
          <p:grpSpPr>
            <a:xfrm>
              <a:off x="511560" y="2378160"/>
              <a:ext cx="1942560" cy="703440"/>
              <a:chOff x="511560" y="2378160"/>
              <a:chExt cx="1942560" cy="703440"/>
            </a:xfrm>
          </p:grpSpPr>
          <p:sp>
            <p:nvSpPr>
              <p:cNvPr id="317" name="Text Box 11"/>
              <p:cNvSpPr/>
              <p:nvPr/>
            </p:nvSpPr>
            <p:spPr>
              <a:xfrm>
                <a:off x="511560" y="237816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2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12"/>
              <p:cNvSpPr/>
              <p:nvPr/>
            </p:nvSpPr>
            <p:spPr>
              <a:xfrm>
                <a:off x="1920960" y="254664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Rectangle 13"/>
          <p:cNvSpPr/>
          <p:nvPr/>
        </p:nvSpPr>
        <p:spPr>
          <a:xfrm>
            <a:off x="762120" y="182880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Objectives, Services, Service Levels,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762120" y="320040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Technology, Process, Delivery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511560" y="4892760"/>
            <a:ext cx="7048800" cy="703440"/>
            <a:chOff x="511560" y="4892760"/>
            <a:chExt cx="7048800" cy="703440"/>
          </a:xfrm>
        </p:grpSpPr>
        <p:sp>
          <p:nvSpPr>
            <p:cNvPr id="322" name="Text Box 16"/>
            <p:cNvSpPr/>
            <p:nvPr/>
          </p:nvSpPr>
          <p:spPr>
            <a:xfrm>
              <a:off x="2819880" y="4950000"/>
              <a:ext cx="474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HO </a:t>
              </a:r>
              <a:r>
                <a:rPr b="0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ill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be responsible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17"/>
            <p:cNvGrpSpPr/>
            <p:nvPr/>
          </p:nvGrpSpPr>
          <p:grpSpPr>
            <a:xfrm>
              <a:off x="511560" y="4892760"/>
              <a:ext cx="1942560" cy="703440"/>
              <a:chOff x="511560" y="4892760"/>
              <a:chExt cx="1942560" cy="703440"/>
            </a:xfrm>
          </p:grpSpPr>
          <p:sp>
            <p:nvSpPr>
              <p:cNvPr id="324" name="Text Box 18"/>
              <p:cNvSpPr/>
              <p:nvPr/>
            </p:nvSpPr>
            <p:spPr>
              <a:xfrm>
                <a:off x="511560" y="489276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4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920960" y="506124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Rectangle 20"/>
          <p:cNvSpPr/>
          <p:nvPr/>
        </p:nvSpPr>
        <p:spPr>
          <a:xfrm>
            <a:off x="762120" y="563868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Procurement, Training, Change Mgmt, O &amp; M,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11560" y="3733920"/>
            <a:ext cx="6994080" cy="703440"/>
            <a:chOff x="511560" y="3733920"/>
            <a:chExt cx="6994080" cy="703440"/>
          </a:xfrm>
        </p:grpSpPr>
        <p:sp>
          <p:nvSpPr>
            <p:cNvPr id="328" name="Text Box 22"/>
            <p:cNvSpPr/>
            <p:nvPr/>
          </p:nvSpPr>
          <p:spPr>
            <a:xfrm>
              <a:off x="2909880" y="3790800"/>
              <a:ext cx="459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ITH WHAT 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resources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3"/>
            <p:cNvGrpSpPr/>
            <p:nvPr/>
          </p:nvGrpSpPr>
          <p:grpSpPr>
            <a:xfrm>
              <a:off x="511560" y="3733920"/>
              <a:ext cx="1942560" cy="703440"/>
              <a:chOff x="511560" y="3733920"/>
              <a:chExt cx="1942560" cy="703440"/>
            </a:xfrm>
          </p:grpSpPr>
          <p:sp>
            <p:nvSpPr>
              <p:cNvPr id="330" name="Text Box 24"/>
              <p:cNvSpPr/>
              <p:nvPr/>
            </p:nvSpPr>
            <p:spPr>
              <a:xfrm>
                <a:off x="511560" y="373392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3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25"/>
              <p:cNvSpPr/>
              <p:nvPr/>
            </p:nvSpPr>
            <p:spPr>
              <a:xfrm>
                <a:off x="1920960" y="390240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Rectangle 26"/>
          <p:cNvSpPr/>
          <p:nvPr/>
        </p:nvSpPr>
        <p:spPr>
          <a:xfrm>
            <a:off x="762120" y="447984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Business Model, Service Charges, P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proach to be adopte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262260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20"/>
          <p:cNvGrpSpPr/>
          <p:nvPr/>
        </p:nvGrpSpPr>
        <p:grpSpPr>
          <a:xfrm>
            <a:off x="5718240" y="1066680"/>
            <a:ext cx="3425400" cy="5181840"/>
            <a:chOff x="5718240" y="1066680"/>
            <a:chExt cx="3425400" cy="5181840"/>
          </a:xfrm>
        </p:grpSpPr>
        <p:grpSp>
          <p:nvGrpSpPr>
            <p:cNvPr id="336" name="Group 11"/>
            <p:cNvGrpSpPr/>
            <p:nvPr/>
          </p:nvGrpSpPr>
          <p:grpSpPr>
            <a:xfrm>
              <a:off x="5718240" y="1066680"/>
              <a:ext cx="3117240" cy="5181840"/>
              <a:chOff x="5718240" y="1066680"/>
              <a:chExt cx="3117240" cy="5181840"/>
            </a:xfrm>
          </p:grpSpPr>
          <p:pic>
            <p:nvPicPr>
              <p:cNvPr id="33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718240" y="1066680"/>
                <a:ext cx="2982960" cy="518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Rectangle 9"/>
              <p:cNvSpPr/>
              <p:nvPr/>
            </p:nvSpPr>
            <p:spPr>
              <a:xfrm>
                <a:off x="6057000" y="3886200"/>
                <a:ext cx="107568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"/>
              <p:cNvSpPr/>
              <p:nvPr/>
            </p:nvSpPr>
            <p:spPr>
              <a:xfrm>
                <a:off x="7222320" y="3733920"/>
                <a:ext cx="16131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Rectangle 5"/>
            <p:cNvSpPr/>
            <p:nvPr/>
          </p:nvSpPr>
          <p:spPr>
            <a:xfrm>
              <a:off x="7261200" y="5334120"/>
              <a:ext cx="18824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le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8"/>
            <p:cNvSpPr/>
            <p:nvPr/>
          </p:nvSpPr>
          <p:spPr>
            <a:xfrm flipV="1">
              <a:off x="8202600" y="3200400"/>
              <a:ext cx="0" cy="1828800"/>
            </a:xfrm>
            <a:prstGeom prst="line">
              <a:avLst/>
            </a:prstGeom>
            <a:ln w="12708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3156120" y="3962520"/>
            <a:ext cx="3092400" cy="914400"/>
            <a:chOff x="3156120" y="3962520"/>
            <a:chExt cx="3092400" cy="914400"/>
          </a:xfrm>
        </p:grpSpPr>
        <p:sp>
          <p:nvSpPr>
            <p:cNvPr id="343" name="AutoShape 8"/>
            <p:cNvSpPr/>
            <p:nvPr/>
          </p:nvSpPr>
          <p:spPr>
            <a:xfrm>
              <a:off x="3156120" y="4038480"/>
              <a:ext cx="798480" cy="838440"/>
            </a:xfrm>
            <a:custGeom>
              <a:avLst/>
              <a:gdLst>
                <a:gd name="textAreaLeft" fmla="*/ 106920 w 798480"/>
                <a:gd name="textAreaRight" fmla="*/ 691560 w 79848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3689280" y="396252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5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al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3"/>
            <p:cNvSpPr/>
            <p:nvPr/>
          </p:nvSpPr>
          <p:spPr>
            <a:xfrm>
              <a:off x="5450040" y="4038480"/>
              <a:ext cx="798480" cy="838440"/>
            </a:xfrm>
            <a:custGeom>
              <a:avLst/>
              <a:gdLst>
                <a:gd name="textAreaLeft" fmla="*/ 106920 w 798480"/>
                <a:gd name="textAreaRight" fmla="*/ 691560 w 79848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4647960"/>
            <a:ext cx="8001000" cy="990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Process Transformat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3992-30C5-45C4-A726-FD4B4CDB728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349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Oval 10"/>
          <p:cNvSpPr/>
          <p:nvPr/>
        </p:nvSpPr>
        <p:spPr>
          <a:xfrm>
            <a:off x="3200400" y="2057400"/>
            <a:ext cx="83808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17524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re is space for e-Government 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E32F-7126-487A-BFD5-1468BE972B3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533520" y="3352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..wherever we see symptoms of   Poor Governan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33520" y="4876920"/>
            <a:ext cx="8381880" cy="1447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.. Air of Mystification, Long Queues,   Multiple Visits …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ervice is Paramoun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A44-8C90-4110-88B8-11476FEBB7F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3352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is subordinate.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533520" y="510552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Focus on Services, Service Leve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on’t TRANSLATE a process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95F-0A61-4415-83AE-5A69BE10FF9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533520" y="44197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RANSFORM a process ! 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aramond"/>
                <a:ea typeface="Arial"/>
              </a:rPr>
              <a:t>Simplify, Remove non-value steps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aramond"/>
                <a:ea typeface="Arial"/>
              </a:rPr>
              <a:t>Minimize manual interventions, Change Acts/Manual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Process :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 messag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 # 3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onsult Stakeholders</a:t>
            </a:r>
            <a:br>
              <a:rPr sz="4600"/>
            </a:b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.. Internal, Extern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97D-F489-4582-B0F4-9044FB7CB9E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533520" y="4495680"/>
            <a:ext cx="8381880" cy="17528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Otherwise,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your design can be off the mark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4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arallel runs ensure failure of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e-Government effort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EEC-7CA7-4C19-BA94-4F6FD8D7F59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533520" y="35053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Manual Systems overtake Digital System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: message #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525780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af8d6"/>
                </a:solidFill>
                <a:latin typeface="Garamond"/>
                <a:ea typeface="Arial"/>
              </a:rPr>
              <a:t>Kill inefficient alternativ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4647960"/>
            <a:ext cx="8001000" cy="990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Transforming Peopl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9F12-21D8-4D7B-A986-7DC2D8EB2CD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382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Oval 10"/>
          <p:cNvSpPr/>
          <p:nvPr/>
        </p:nvSpPr>
        <p:spPr>
          <a:xfrm>
            <a:off x="4038480" y="2133720"/>
            <a:ext cx="83844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-Government i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7D0-06E2-44F5-8215-8C243A4D0A6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533520" y="2666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… </a:t>
            </a: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For the People,</a:t>
            </a:r>
            <a:br>
              <a:rPr sz="3800"/>
            </a:b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       with the People,</a:t>
            </a:r>
            <a:br>
              <a:rPr sz="3800"/>
            </a:b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   &amp; by the People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86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1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533520" y="4876920"/>
            <a:ext cx="8381880" cy="1447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.. Inform them, Involve them and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ncentivize adop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DSC01315"/>
          <p:cNvPicPr/>
          <p:nvPr/>
        </p:nvPicPr>
        <p:blipFill>
          <a:blip r:embed="rId1">
            <a:grayscl/>
            <a:lum bright="18000"/>
          </a:blip>
          <a:stretch/>
        </p:blipFill>
        <p:spPr>
          <a:xfrm>
            <a:off x="2286000" y="3048120"/>
            <a:ext cx="3100320" cy="2066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DSC02015"/>
          <p:cNvPicPr/>
          <p:nvPr/>
        </p:nvPicPr>
        <p:blipFill>
          <a:blip r:embed="rId2"/>
          <a:stretch/>
        </p:blipFill>
        <p:spPr>
          <a:xfrm>
            <a:off x="5029200" y="1752480"/>
            <a:ext cx="3697200" cy="277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3_m"/>
          <p:cNvPicPr/>
          <p:nvPr/>
        </p:nvPicPr>
        <p:blipFill>
          <a:blip r:embed="rId3">
            <a:grayscl/>
            <a:lum bright="12000"/>
          </a:blip>
          <a:stretch/>
        </p:blipFill>
        <p:spPr>
          <a:xfrm>
            <a:off x="380880" y="1066680"/>
            <a:ext cx="3467160" cy="2262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waiting"/>
          <p:cNvPicPr/>
          <p:nvPr/>
        </p:nvPicPr>
        <p:blipFill>
          <a:blip r:embed="rId4"/>
          <a:stretch/>
        </p:blipFill>
        <p:spPr>
          <a:xfrm>
            <a:off x="2590920" y="4495680"/>
            <a:ext cx="3657600" cy="21970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45720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llions of citizens spend time attempting to access Government  services that should be rightfully the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waiting_room"/>
          <p:cNvPicPr/>
          <p:nvPr/>
        </p:nvPicPr>
        <p:blipFill>
          <a:blip r:embed="rId5"/>
          <a:stretch/>
        </p:blipFill>
        <p:spPr>
          <a:xfrm>
            <a:off x="304920" y="3200400"/>
            <a:ext cx="3047760" cy="1920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registration"/>
          <p:cNvPicPr/>
          <p:nvPr/>
        </p:nvPicPr>
        <p:blipFill>
          <a:blip r:embed="rId6"/>
          <a:stretch/>
        </p:blipFill>
        <p:spPr>
          <a:xfrm>
            <a:off x="3733920" y="9144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ArunSouri"/>
          <p:cNvPicPr/>
          <p:nvPr/>
        </p:nvPicPr>
        <p:blipFill>
          <a:blip r:embed="rId7"/>
          <a:stretch/>
        </p:blipFill>
        <p:spPr>
          <a:xfrm>
            <a:off x="5715000" y="41148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A364-2BEE-49AF-BAFC-1F2B3B1A2E8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vest Time in Project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C74-CFB1-423A-B348-85257468F3C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457200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Conceptualize, Architect, Desig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plicate where ever possible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…do not re-invent the whe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DFC-8C2C-436B-BD11-139B5E2962C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Not only : processes, technology, business model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…but more important the spirit of the   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people driving the projec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3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adership is Critical to Succ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1CA-8445-4B06-9E58-7447456B6D2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Leaders can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Create Vision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 Prioritize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       Take Hard Decis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4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 Internal Capacity - Competencies within Depart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6873-B580-4216-AF5D-60B1479E605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457200" y="4343400"/>
            <a:ext cx="8381880" cy="1371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At Project &amp; Program leve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pacity Need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Slide Number Placeholder 1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1D6-C32E-43E3-A549-55D9F2977FC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5029200" y="1066680"/>
            <a:ext cx="3809880" cy="762120"/>
          </a:xfrm>
          <a:prstGeom prst="rect">
            <a:avLst/>
          </a:prstGeom>
          <a:solidFill>
            <a:srgbClr val="96a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dership &amp;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029200" y="2286000"/>
            <a:ext cx="3809880" cy="76212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5029200" y="3505320"/>
            <a:ext cx="3809880" cy="7617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029200" y="4724280"/>
            <a:ext cx="3809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029200" y="5943600"/>
            <a:ext cx="3809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6781680" y="1828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781680" y="30481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6781680" y="4267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6781680" y="54864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685800" y="9907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a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olicy For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ommitting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aking hard dec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685800" y="21337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eparing Roadm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orit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rameworks, Guid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685800" y="3276720"/>
            <a:ext cx="3809880" cy="1143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Monitoring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Inter-agency Collab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und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apacit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685800" y="4572000"/>
            <a:ext cx="3809880" cy="99072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onceptu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rchite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efinition (RFP, SLA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6"/>
          <p:cNvSpPr/>
          <p:nvPr/>
        </p:nvSpPr>
        <p:spPr>
          <a:xfrm>
            <a:off x="685800" y="57913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Bid Proces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oject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Quality Assu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304920" y="20574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Garamond"/>
              </a:rPr>
              <a:t>The most pervasive issu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36F-CB41-46C2-AF69-088DA66EF24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"/>
          <p:cNvSpPr/>
          <p:nvPr/>
        </p:nvSpPr>
        <p:spPr>
          <a:xfrm>
            <a:off x="3429000" y="2819520"/>
            <a:ext cx="228600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228600" y="1676520"/>
            <a:ext cx="8763120" cy="4343400"/>
            <a:chOff x="228600" y="1676520"/>
            <a:chExt cx="8763120" cy="4343400"/>
          </a:xfrm>
        </p:grpSpPr>
        <p:sp>
          <p:nvSpPr>
            <p:cNvPr id="432" name="AutoShape 5"/>
            <p:cNvSpPr/>
            <p:nvPr/>
          </p:nvSpPr>
          <p:spPr>
            <a:xfrm>
              <a:off x="228600" y="1676520"/>
              <a:ext cx="3505320" cy="1295280"/>
            </a:xfrm>
            <a:prstGeom prst="wedgeRectCallout">
              <a:avLst>
                <a:gd name="adj1" fmla="val 43750"/>
                <a:gd name="adj2" fmla="val 8369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nceptualiz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on, Objectiv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&amp; Outcom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P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6"/>
            <p:cNvSpPr/>
            <p:nvPr/>
          </p:nvSpPr>
          <p:spPr>
            <a:xfrm>
              <a:off x="5486400" y="1676520"/>
              <a:ext cx="3505320" cy="1295280"/>
            </a:xfrm>
            <a:prstGeom prst="wedgeRectCallout">
              <a:avLst>
                <a:gd name="adj1" fmla="val -45967"/>
                <a:gd name="adj2" fmla="val 86518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sig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Re-engineering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Mod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7"/>
            <p:cNvSpPr/>
            <p:nvPr/>
          </p:nvSpPr>
          <p:spPr>
            <a:xfrm>
              <a:off x="5486400" y="4648320"/>
              <a:ext cx="3505320" cy="1295280"/>
            </a:xfrm>
            <a:prstGeom prst="wedgeRectCallout">
              <a:avLst>
                <a:gd name="adj1" fmla="val -45291"/>
                <a:gd name="adj2" fmla="val -913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mplement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ment &amp; Test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8"/>
            <p:cNvSpPr/>
            <p:nvPr/>
          </p:nvSpPr>
          <p:spPr>
            <a:xfrm>
              <a:off x="228600" y="4724280"/>
              <a:ext cx="3581280" cy="1295640"/>
            </a:xfrm>
            <a:prstGeom prst="wedgeRectCallout">
              <a:avLst>
                <a:gd name="adj1" fmla="val 42199"/>
                <a:gd name="adj2" fmla="val -88481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ost- Implement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A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ess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hanc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uild long term Capacities…</a:t>
            </a:r>
            <a:br>
              <a:rPr sz="4600"/>
            </a:br>
            <a:r>
              <a:rPr b="0" i="1" lang="en-US" sz="5400" spc="-1" strike="noStrike">
                <a:solidFill>
                  <a:srgbClr val="000099"/>
                </a:solidFill>
                <a:latin typeface="Garamond"/>
              </a:rPr>
              <a:t>e-Gov Champ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D85-B252-4656-B143-8D82EBD6DBB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6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533520" y="4191120"/>
            <a:ext cx="8381880" cy="17524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nvest in long term training programs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dentify the right employees to be trained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1760" y="4724280"/>
            <a:ext cx="7848360" cy="106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Managing Technology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67BB-4B02-418B-B2E0-C93CACB6BA3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443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Oval 10"/>
          <p:cNvSpPr/>
          <p:nvPr/>
        </p:nvSpPr>
        <p:spPr>
          <a:xfrm>
            <a:off x="4952880" y="1981080"/>
            <a:ext cx="8384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sign System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or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calability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liability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curi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8A1-7AB0-4DC9-B3EC-08D50788EF7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echnology : message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You are dealing with citizens &amp; busines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cus on User Experi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B1C1-0140-4122-AE94-9CC21C4E67D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80880" y="3962520"/>
            <a:ext cx="8382240" cy="10666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Design a Delivery Channel Strateg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echnology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06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Iss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 rot="20133000">
            <a:off x="2362680" y="37335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actions with 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802080" y="1555920"/>
            <a:ext cx="7579800" cy="5225760"/>
            <a:chOff x="802080" y="1555920"/>
            <a:chExt cx="7579800" cy="5225760"/>
          </a:xfrm>
        </p:grpSpPr>
        <p:sp>
          <p:nvSpPr>
            <p:cNvPr id="240" name="Freeform 5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6"/>
            <p:cNvSpPr/>
            <p:nvPr/>
          </p:nvSpPr>
          <p:spPr>
            <a:xfrm>
              <a:off x="3963960" y="4495680"/>
              <a:ext cx="1598760" cy="1600200"/>
            </a:xfrm>
            <a:prstGeom prst="ellipse">
              <a:avLst/>
            </a:prstGeom>
            <a:gradFill rotWithShape="0">
              <a:gsLst>
                <a:gs pos="0">
                  <a:srgbClr val="3b812f"/>
                </a:gs>
                <a:gs pos="100000">
                  <a:srgbClr val="152e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838080" y="4114800"/>
              <a:ext cx="1600200" cy="1600200"/>
              <a:chOff x="838080" y="4114800"/>
              <a:chExt cx="1600200" cy="1600200"/>
            </a:xfrm>
          </p:grpSpPr>
          <p:sp>
            <p:nvSpPr>
              <p:cNvPr id="243" name="Oval 8"/>
              <p:cNvSpPr/>
              <p:nvPr/>
            </p:nvSpPr>
            <p:spPr>
              <a:xfrm>
                <a:off x="838080" y="411480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403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1002960" y="4451400"/>
                <a:ext cx="1265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9d9d9"/>
                    </a:solidFill>
                    <a:latin typeface="Arial"/>
                  </a:rPr>
                  <a:t>Urban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9d9d9"/>
                    </a:solidFill>
                    <a:latin typeface="Arial"/>
                  </a:rPr>
                  <a:t>Citizen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0"/>
            <p:cNvGrpSpPr/>
            <p:nvPr/>
          </p:nvGrpSpPr>
          <p:grpSpPr>
            <a:xfrm>
              <a:off x="3581280" y="1981080"/>
              <a:ext cx="1600200" cy="1600200"/>
              <a:chOff x="3581280" y="1981080"/>
              <a:chExt cx="1600200" cy="1600200"/>
            </a:xfrm>
          </p:grpSpPr>
          <p:sp>
            <p:nvSpPr>
              <p:cNvPr id="246" name="Oval 11"/>
              <p:cNvSpPr/>
              <p:nvPr/>
            </p:nvSpPr>
            <p:spPr>
              <a:xfrm>
                <a:off x="3581280" y="198108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"/>
              <p:cNvSpPr/>
              <p:nvPr/>
            </p:nvSpPr>
            <p:spPr>
              <a:xfrm>
                <a:off x="3739320" y="251424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armer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>
              <a:off x="6705720" y="19810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afbf39"/>
                </a:gs>
                <a:gs pos="100000">
                  <a:srgbClr val="3c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6870240" y="243828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Mediu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Indust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"/>
            <p:cNvSpPr/>
            <p:nvPr/>
          </p:nvSpPr>
          <p:spPr>
            <a:xfrm>
              <a:off x="4026600" y="481644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Larg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Busin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6"/>
          <p:cNvSpPr/>
          <p:nvPr/>
        </p:nvSpPr>
        <p:spPr>
          <a:xfrm>
            <a:off x="152280" y="2895480"/>
            <a:ext cx="2286000" cy="838440"/>
          </a:xfrm>
          <a:prstGeom prst="wedgeRoundRectCallout">
            <a:avLst>
              <a:gd name="adj1" fmla="val 36597"/>
              <a:gd name="adj2" fmla="val 124430"/>
              <a:gd name="adj3" fmla="val 16667"/>
            </a:avLst>
          </a:prstGeom>
          <a:gradFill rotWithShape="0">
            <a:gsLst>
              <a:gs pos="0">
                <a:srgbClr val="cc9900"/>
              </a:gs>
              <a:gs pos="50000">
                <a:srgbClr val="5e47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1066680" y="1447920"/>
            <a:ext cx="2286000" cy="838080"/>
          </a:xfrm>
          <a:prstGeom prst="wedgeRoundRectCallout">
            <a:avLst>
              <a:gd name="adj1" fmla="val 68333"/>
              <a:gd name="adj2" fmla="val 114583"/>
              <a:gd name="adj3" fmla="val 16667"/>
            </a:avLst>
          </a:prstGeom>
          <a:gradFill rotWithShape="0">
            <a:gsLst>
              <a:gs pos="0">
                <a:srgbClr val="4d4d4d"/>
              </a:gs>
              <a:gs pos="50000">
                <a:srgbClr val="242424"/>
              </a:gs>
              <a:gs pos="100000">
                <a:srgbClr val="4d4d4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>
            <a:off x="4800600" y="1143000"/>
            <a:ext cx="2286000" cy="838080"/>
          </a:xfrm>
          <a:prstGeom prst="wedgeRoundRectCallout">
            <a:avLst>
              <a:gd name="adj1" fmla="val 43611"/>
              <a:gd name="adj2" fmla="val 101703"/>
              <a:gd name="adj3" fmla="val 16667"/>
            </a:avLst>
          </a:prstGeom>
          <a:gradFill rotWithShape="0">
            <a:gsLst>
              <a:gs pos="0">
                <a:srgbClr val="afbf39"/>
              </a:gs>
              <a:gs pos="50000">
                <a:srgbClr val="51581a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5562720" y="5943600"/>
            <a:ext cx="2590560" cy="838080"/>
          </a:xfrm>
          <a:prstGeom prst="wedgeRoundRectCallout">
            <a:avLst>
              <a:gd name="adj1" fmla="val -55574"/>
              <a:gd name="adj2" fmla="val -143750"/>
              <a:gd name="adj3" fmla="val 16667"/>
            </a:avLst>
          </a:prstGeom>
          <a:gradFill rotWithShape="0">
            <a:gsLst>
              <a:gs pos="0">
                <a:srgbClr val="336600"/>
              </a:gs>
              <a:gs pos="50000">
                <a:srgbClr val="182f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00+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5867280" y="3886200"/>
            <a:ext cx="3276720" cy="1905120"/>
            <a:chOff x="5867280" y="3886200"/>
            <a:chExt cx="3276720" cy="1905120"/>
          </a:xfrm>
        </p:grpSpPr>
        <p:sp>
          <p:nvSpPr>
            <p:cNvPr id="256" name="Cloud"/>
            <p:cNvSpPr/>
            <p:nvPr/>
          </p:nvSpPr>
          <p:spPr>
            <a:xfrm>
              <a:off x="5867280" y="3903840"/>
              <a:ext cx="3276720" cy="1887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we streamlin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se interac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enhance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tional Productivit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8216640" y="3886200"/>
              <a:ext cx="92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endParaRPr b="1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1760" y="4724280"/>
            <a:ext cx="7848360" cy="914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Managing Resource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6D7-F98E-4EE1-B76F-57E9A60AD00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461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Oval 10"/>
          <p:cNvSpPr/>
          <p:nvPr/>
        </p:nvSpPr>
        <p:spPr>
          <a:xfrm>
            <a:off x="5867280" y="1981080"/>
            <a:ext cx="8384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stainability is a Key Concer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E29-7571-4543-8D6C-8E7C5F1A6DC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0880" y="3352680"/>
            <a:ext cx="8382240" cy="3124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af8d6"/>
                </a:solidFill>
                <a:latin typeface="Garamond"/>
                <a:ea typeface="Arial"/>
              </a:rPr>
              <a:t>Design an Implementation Model   for Sustainability ...</a:t>
            </a:r>
            <a:br>
              <a:rPr sz="34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- </a:t>
            </a: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Financial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Organizational 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Legal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Technologica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Resources : message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r Charges can be a 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werful re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262-4D28-46B7-94E7-14159F64CEB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3886200"/>
            <a:ext cx="8382240" cy="1371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Ensure Sustainability &amp;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Value for Mone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Resources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xplore Public Private Partnership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AE91-0690-4481-9F9C-E66100F2240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80880" y="3962520"/>
            <a:ext cx="8382240" cy="21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Combine Efficiency &amp; Customer Orientation</a:t>
            </a:r>
            <a:br>
              <a:rPr sz="3400"/>
            </a:b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with Accountabilit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Develop Service Leve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Resources: message # 3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14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Government rests on 4 pill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tion is critical in e-Gover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 building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hip - Political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w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2B43-4645-40B5-9D9F-F2BD3DCF7BB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Picture1"/>
          <p:cNvPicPr/>
          <p:nvPr/>
        </p:nvPicPr>
        <p:blipFill>
          <a:blip r:embed="rId1"/>
          <a:stretch/>
        </p:blipFill>
        <p:spPr>
          <a:xfrm>
            <a:off x="6324480" y="28260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crossroads-cropped"/>
          <p:cNvPicPr/>
          <p:nvPr/>
        </p:nvPicPr>
        <p:blipFill>
          <a:blip r:embed="rId1"/>
          <a:stretch/>
        </p:blipFill>
        <p:spPr>
          <a:xfrm>
            <a:off x="0" y="358920"/>
            <a:ext cx="4114800" cy="59785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0"/>
          <p:cNvSpPr/>
          <p:nvPr/>
        </p:nvSpPr>
        <p:spPr>
          <a:xfrm flipV="1" rot="10800000">
            <a:off x="4952880" y="356688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2133720" y="457200"/>
            <a:ext cx="6781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no uninteresting things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There are only uninterested people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4343400" y="2666880"/>
            <a:ext cx="4343400" cy="825480"/>
          </a:xfrm>
          <a:prstGeom prst="rect">
            <a:avLst/>
          </a:prstGeom>
          <a:solidFill>
            <a:srgbClr val="0000f2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8d6"/>
                </a:solidFill>
                <a:latin typeface="Palatino Linotype"/>
                <a:ea typeface="Arial"/>
              </a:rPr>
              <a:t>e-Governance is a journey, Not the destination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5257800" y="46404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d@nielit.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00C8-D159-4555-B7C6-0ABD3CC6A84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17440"/>
            <a:ext cx="6650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812f"/>
                </a:solidFill>
                <a:latin typeface="Garamond"/>
              </a:rPr>
              <a:t>Success &amp; Failure R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7800" y="1480680"/>
            <a:ext cx="75949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% of eGov projects are 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not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abandon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eGov projects are partial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tated goals not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ccess but failure after an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for one group but failure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eGov projects are 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keholders benef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ver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E31-E206-4611-9F3A-26A39DC0A5E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6095880" y="380880"/>
            <a:ext cx="3200400" cy="3048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Most Failures 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rooted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impr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Project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&a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Project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76320" y="4724280"/>
            <a:ext cx="1447560" cy="2057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We need 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eff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institutional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to im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Success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5E1-F7BC-4794-B48C-7717DA83918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04560" y="1488600"/>
            <a:ext cx="8381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return on investment (value in terms of reduction in service delivery timelines, administrative burden, improvement in SLA’s, quality of service…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in meeting defined project objectives (if any are defi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quality of the product &amp; services (performance of product and vend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dor lock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any mo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itle 1"/>
          <p:cNvSpPr/>
          <p:nvPr/>
        </p:nvSpPr>
        <p:spPr>
          <a:xfrm>
            <a:off x="2286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HALLENGES IN CURRENT ENVIRONMENT - 2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-Government Projec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160" y="228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SOME KEY FACTORS CONTRIBUTING TO CURRENT ENVIRONMENT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608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ject design incompatible with current readiness and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ast time spent by the organizations in planning and desig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clear and measurable project goals, objectives and anticipated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rger emphasis on IT enablement with minimal focus on business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Minimal focus on key project enablers (GPR, people change, capacity building.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nimal focus on project and systems quality assu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or communication to the stakeholders and users on objectives and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adequate resources for project (people and fund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capacities to conceptualize and manage e-governanc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ior leadership attention towards e-Governance initiatives is minimal – often regarded as a low priorit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stable project and permanent leadership with managerial powers to driv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NEED FOR A MORE ROBUST APPROACH FOR E-GOVERNANCE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560" y="914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 SUPPORT GOVERNMENT  OR PUBLIC SECTOR ORGANIZATION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t righ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 project design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ustomer focu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heightened focus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siness and stakeholder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orit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requirements in line with business and stakehold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in adop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 practi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ight approach at each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vate sector particip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ject delivery to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ased implement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minimal impact and maximum results to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1066680" y="1079640"/>
            <a:ext cx="3733920" cy="2958840"/>
            <a:chOff x="1066680" y="1079640"/>
            <a:chExt cx="3733920" cy="2958840"/>
          </a:xfrm>
        </p:grpSpPr>
        <p:sp>
          <p:nvSpPr>
            <p:cNvPr id="272" name="Rectangle 3"/>
            <p:cNvSpPr/>
            <p:nvPr/>
          </p:nvSpPr>
          <p:spPr>
            <a:xfrm rot="16200000">
              <a:off x="924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">
              <a:hlinkClick r:id="rId1" action="ppaction://hlinksldjump"/>
            </p:cNvPr>
            <p:cNvSpPr/>
            <p:nvPr/>
          </p:nvSpPr>
          <p:spPr>
            <a:xfrm rot="16200000">
              <a:off x="1689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>
              <a:hlinkClick r:id="rId2" action="ppaction://hlinksldjump"/>
            </p:cNvPr>
            <p:cNvSpPr/>
            <p:nvPr/>
          </p:nvSpPr>
          <p:spPr>
            <a:xfrm rot="16200000">
              <a:off x="245520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>
              <a:hlinkClick r:id="rId3" action="ppaction://hlinksldjump"/>
            </p:cNvPr>
            <p:cNvSpPr/>
            <p:nvPr/>
          </p:nvSpPr>
          <p:spPr>
            <a:xfrm rot="16200000">
              <a:off x="3264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1066680" y="1079640"/>
              <a:ext cx="3733920" cy="90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Four Pilla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1111320" y="3733920"/>
              <a:ext cx="3645000" cy="3045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9"/>
          <p:cNvSpPr/>
          <p:nvPr/>
        </p:nvSpPr>
        <p:spPr>
          <a:xfrm>
            <a:off x="1143000" y="4114800"/>
            <a:ext cx="13716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par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5702400" y="4114800"/>
            <a:ext cx="11095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540160" y="4114800"/>
            <a:ext cx="14364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079640" y="4572000"/>
            <a:ext cx="7912080" cy="3682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  <a:ea typeface="Arial"/>
              </a:rPr>
              <a:t>Front 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Citizens interact with Gover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028880" y="6342120"/>
            <a:ext cx="8094600" cy="3682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  <a:ea typeface="Arial"/>
              </a:rPr>
              <a:t>Back 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Working within Gover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1066680" y="4997520"/>
            <a:ext cx="7924320" cy="1251000"/>
            <a:chOff x="1066680" y="4997520"/>
            <a:chExt cx="7924320" cy="1251000"/>
          </a:xfrm>
        </p:grpSpPr>
        <p:grpSp>
          <p:nvGrpSpPr>
            <p:cNvPr id="284" name="Group 15"/>
            <p:cNvGrpSpPr/>
            <p:nvPr/>
          </p:nvGrpSpPr>
          <p:grpSpPr>
            <a:xfrm>
              <a:off x="1066680" y="4997520"/>
              <a:ext cx="7924320" cy="1251000"/>
              <a:chOff x="1066680" y="4997520"/>
              <a:chExt cx="7924320" cy="1251000"/>
            </a:xfrm>
          </p:grpSpPr>
          <p:pic>
            <p:nvPicPr>
              <p:cNvPr id="285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34600" y="5010120"/>
                <a:ext cx="1663920" cy="12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17" descr="DSC02018"/>
              <p:cNvPicPr/>
              <p:nvPr/>
            </p:nvPicPr>
            <p:blipFill>
              <a:blip r:embed="rId5">
                <a:lum bright="6000"/>
              </a:blip>
              <a:stretch/>
            </p:blipFill>
            <p:spPr>
              <a:xfrm>
                <a:off x="5938560" y="5035680"/>
                <a:ext cx="1626120" cy="117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8" descr="kiosk"/>
              <p:cNvPicPr/>
              <p:nvPr/>
            </p:nvPicPr>
            <p:blipFill>
              <a:blip r:embed="rId6"/>
              <a:stretch/>
            </p:blipFill>
            <p:spPr>
              <a:xfrm>
                <a:off x="4791240" y="5010120"/>
                <a:ext cx="1134000" cy="12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9" descr="DSC02015"/>
              <p:cNvPicPr/>
              <p:nvPr/>
            </p:nvPicPr>
            <p:blipFill>
              <a:blip r:embed="rId7">
                <a:lum bright="18000"/>
              </a:blip>
              <a:stretch/>
            </p:blipFill>
            <p:spPr>
              <a:xfrm>
                <a:off x="7564680" y="5010120"/>
                <a:ext cx="1426320" cy="118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20" descr="eseva_2"/>
              <p:cNvPicPr/>
              <p:nvPr/>
            </p:nvPicPr>
            <p:blipFill>
              <a:blip r:embed="rId8">
                <a:alphaModFix amt="50000"/>
              </a:blip>
              <a:stretch/>
            </p:blipFill>
            <p:spPr>
              <a:xfrm>
                <a:off x="1066680" y="4997520"/>
                <a:ext cx="14263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0" name="Picture 21" descr="untitled"/>
            <p:cNvPicPr/>
            <p:nvPr/>
          </p:nvPicPr>
          <p:blipFill>
            <a:blip r:embed="rId9">
              <a:lum bright="24000"/>
            </a:blip>
            <a:stretch/>
          </p:blipFill>
          <p:spPr>
            <a:xfrm>
              <a:off x="3998880" y="5010120"/>
              <a:ext cx="8056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22"/>
          <p:cNvSpPr/>
          <p:nvPr/>
        </p:nvSpPr>
        <p:spPr>
          <a:xfrm>
            <a:off x="4876920" y="1066680"/>
            <a:ext cx="3809880" cy="2971800"/>
          </a:xfrm>
          <a:prstGeom prst="rect">
            <a:avLst/>
          </a:prstGeom>
          <a:solidFill>
            <a:srgbClr val="e6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81480" y="1219320"/>
            <a:ext cx="3200400" cy="3808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4 Questions</a:t>
            </a:r>
            <a:r>
              <a:rPr b="0" lang="en-US" sz="15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 to be addressed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Slide Number Placeholder 3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353-7510-4EC3-B080-E3F96716278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5429520" y="172080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HAT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do we want to </a:t>
            </a:r>
            <a:r>
              <a:rPr b="0" i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Achieve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4965840" y="180324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497844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7"/>
          <p:cNvSpPr/>
          <p:nvPr/>
        </p:nvSpPr>
        <p:spPr>
          <a:xfrm>
            <a:off x="4978440" y="2971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4978440" y="35053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5455440" y="23684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HOW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do we want to </a:t>
            </a:r>
            <a:r>
              <a:rPr b="0" i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Implement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5415120" y="290844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WITH WHAT 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resources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5401440" y="343548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HO </a:t>
            </a:r>
            <a:r>
              <a:rPr b="0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ill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be responsible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380880" y="76320"/>
            <a:ext cx="8305920" cy="3808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58b"/>
                </a:solidFill>
                <a:latin typeface="Arial"/>
                <a:ea typeface="Arial"/>
              </a:rPr>
              <a:t>Government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 rot="16200000">
            <a:off x="-2323800" y="3390840"/>
            <a:ext cx="5867280" cy="457200"/>
          </a:xfrm>
          <a:prstGeom prst="rect">
            <a:avLst/>
          </a:prstGeom>
          <a:solidFill>
            <a:srgbClr val="f2f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  <a:ea typeface="Arial"/>
              </a:rPr>
              <a:t>Citizens | Businesses  | Government  |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4013280" y="4114800"/>
            <a:ext cx="165096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ponsiven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990720" y="533520"/>
            <a:ext cx="7696080" cy="457200"/>
          </a:xfrm>
          <a:prstGeom prst="rect">
            <a:avLst/>
          </a:prstGeom>
          <a:solidFill>
            <a:srgbClr val="f2f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  <a:ea typeface="Arial"/>
              </a:rPr>
              <a:t>e-Government         e-Governance         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6858000" y="4114800"/>
            <a:ext cx="110952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icip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8013600" y="4114800"/>
            <a:ext cx="110988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5:57:49Z</dcterms:created>
  <dc:creator>Piyush Gupta</dc:creator>
  <dc:description/>
  <dc:language>en-US</dc:language>
  <cp:lastModifiedBy>NIELIT6</cp:lastModifiedBy>
  <dcterms:modified xsi:type="dcterms:W3CDTF">2013-09-25T03:39:25Z</dcterms:modified>
  <cp:revision>277</cp:revision>
  <dc:subject/>
  <dc:title>Change Management &amp; Capacity Building   - Pillars of e-Government Projects</dc:title>
</cp:coreProperties>
</file>